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6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DC27-87D8-49EE-ADEE-9B73AC18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1BA8-59C5-49CE-8E64-66289752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BF6F-305A-4F6F-92C5-DB5982C9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C3C-4873-49E2-9FCF-043F53CC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B5B8-C16F-4739-ADA4-081D3AF2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36AB-6059-4153-AD15-C43DBC8C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D380-788E-45A2-8E53-B2E54400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8B3C-7D17-4578-9E49-DC33BE86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F276-CD33-467E-AC0C-B212FE18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1DFA-4563-47B0-BC80-13AEAF70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82DE-95E4-4F8D-91BF-1140AE74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8A81-EA2D-4525-8907-2B96FABA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CFF9-FEF3-4C21-B11D-17D555E0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CB94-2B9E-4308-9164-18F46535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DBAF-C304-473E-AE0F-A83C7B98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E914-7589-4786-B3B2-A7AA2F02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4E6A-0E9C-4790-830D-DF85A787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7A55B-B5EA-451E-92E2-7EEA9AEC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98408-2D57-40E6-B8A6-1F52729A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BCD95-7EFE-4AC4-A5CD-9315D782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9E264-12B1-4F8A-A8CE-50E5D376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55E01-BBF5-4E26-B0D9-C8469109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616-78B5-48F1-BCD8-835A0F2D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11C0B-B91E-4C11-9939-67458988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CB00E-6034-4BC4-898C-C1C592EF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A7F74-3935-444B-9F57-FA44C68D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20A8E-1062-4C01-AC42-2C725ED7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1D47E-9F17-4C7F-93AF-19C5097E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18790-CDEE-4012-BEAB-6B64804A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03745-EA26-4EFC-8D9E-499D81FF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42BC4-1E94-4AB8-8D30-06BDB147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931D0-03A8-4C46-97BF-DD431D2F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A44FB-EF69-4532-8382-D5DB1F74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5FA0-107E-4A4C-AFFC-F3F35D50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048AB-C401-4B56-950B-3969619A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AF5CF-2D48-4C64-8EB3-993AFD4A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E101A-52FD-48B8-98C5-9D5F66D0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4D463-76F1-468B-BB41-A0C9EDD5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7728D-D47B-4756-AB2E-35B9C5C7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95F8F-DECB-448E-B4FB-8EA29860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A994E-3078-4ED2-BB2F-874CB079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E0F0C-39E0-419E-9735-53804700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ED165-F22D-46B7-BC88-C1592A98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D93-ED62-46F8-B0E0-80E5E0ED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ECB-D9EE-4BD1-82A0-D3405CC2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DB1A-2DD0-4A7E-AF65-F021F6A3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0DDE-B8B1-4373-9165-25E22302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5DDD-E493-4582-AB34-137E9FCD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5A23-EC93-4058-9D4F-DF0DD97F79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812F-57DD-4679-A6A3-828DDE6BD93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6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3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FC20-9124-4DF4-B777-010B3FAEAD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07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A5BE-A8A9-4569-A711-2D1728D406B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58560" y="326520"/>
            <a:ext cx="7885080" cy="26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763640" y="4287960"/>
            <a:ext cx="7156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Ав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матическое план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Урок. Итоговое заня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с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Ресур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oblcit"/>
          <p:cNvPicPr/>
          <p:nvPr/>
        </p:nvPicPr>
        <p:blipFill>
          <a:blip r:embed="rId1"/>
          <a:stretch/>
        </p:blipFill>
        <p:spPr>
          <a:xfrm>
            <a:off x="250920" y="326880"/>
            <a:ext cx="1344600" cy="13446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1"/>
          <p:cNvSpPr/>
          <p:nvPr/>
        </p:nvSpPr>
        <p:spPr>
          <a:xfrm>
            <a:off x="537840" y="3297240"/>
            <a:ext cx="92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Изобразительное искусство. 7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Скругленный прямоугольник 5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Object 7" descr=""/>
          <p:cNvPicPr/>
          <p:nvPr/>
        </p:nvPicPr>
        <p:blipFill>
          <a:blip r:embed="rId1"/>
          <a:stretch/>
        </p:blipFill>
        <p:spPr>
          <a:xfrm>
            <a:off x="2881440" y="603360"/>
            <a:ext cx="3381120" cy="485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bs-aaw-TomPerkinson-KatsinaWithButterfly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7"/>
          <p:cNvSpPr/>
          <p:nvPr/>
        </p:nvSpPr>
        <p:spPr>
          <a:xfrm>
            <a:off x="0" y="260280"/>
            <a:ext cx="5076720" cy="87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Все жанр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искусств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хороши, кром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       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скучного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bat"/>
              </a:rPr>
              <a:t>но скука - не жан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</a:t>
            </a:r>
            <a:r>
              <a:rPr b="0" lang="ru-RU" sz="3600" spc="-1" strike="noStrike">
                <a:solidFill>
                  <a:srgbClr val="ffcc00"/>
                </a:solidFill>
                <a:latin typeface="Arbat"/>
              </a:rPr>
              <a:t>Воль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ортре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portrait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), изображение человека или группы людей; в изобразительном искусстве один из жанров, в котором воссоздается человеческая индивидуальнос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7" descr="1"/>
          <p:cNvPicPr/>
          <p:nvPr/>
        </p:nvPicPr>
        <p:blipFill>
          <a:blip r:embed="rId1"/>
          <a:stretch/>
        </p:blipFill>
        <p:spPr>
          <a:xfrm>
            <a:off x="4788000" y="1628640"/>
            <a:ext cx="40719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533920" y="2599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ейзаж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2004480"/>
            <a:ext cx="433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франц. pays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вид, изображение какой-либо местности; в живописи и графике жанр, в котором основной предмет изображения — природа. Часто изображаются виды городов или архитектурных комплексов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архитектурный пейзаж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едут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морские виды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марин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Picture 7" descr="1"/>
          <p:cNvPicPr/>
          <p:nvPr/>
        </p:nvPicPr>
        <p:blipFill>
          <a:blip r:embed="rId1"/>
          <a:stretch/>
        </p:blipFill>
        <p:spPr>
          <a:xfrm>
            <a:off x="5076720" y="1628640"/>
            <a:ext cx="3678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Comic Sans MS"/>
              </a:rPr>
              <a:t>Натюрморт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537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Monotype Corsiva"/>
              </a:rPr>
              <a:t>nature morte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букв. — мертвая природа), жанр изобразительного искусства (главным образом станковой живописи), посвященный изображению неодушевленных предметов (утварь, плоды, дичь, букеты цветов, атрибуты какой-либо деятельности и т. д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292720" y="1628640"/>
            <a:ext cx="3543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20000"/>
                </a:solidFill>
                <a:latin typeface="Monotype Corsiva"/>
              </a:rPr>
              <a:t>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Скульп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 от лат.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sculp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высекаю),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ид изобразительного искусства, произведения которого имеют объемную, трехмерную форму и выполняются из твердых или пластических материалов. Скульптура изображает главным образом человека, реже животны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    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Художественные  средства скульптур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строение объемной формы, пластическая моделировка (лепка), разработка силуэта, фактуры, в некоторых случаях также цвета. Различаются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руглая скульптура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статуя, группа, статуэтка, бюст), осматриваемая с разных сторон, и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льеф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зображение располагается на плоскости фон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Рельеф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900000" y="57340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ату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1" descr="1"/>
          <p:cNvPicPr/>
          <p:nvPr/>
        </p:nvPicPr>
        <p:blipFill>
          <a:blip r:embed="rId1"/>
          <a:stretch/>
        </p:blipFill>
        <p:spPr>
          <a:xfrm>
            <a:off x="539640" y="519120"/>
            <a:ext cx="3867120" cy="5214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1"/>
          <p:cNvPicPr/>
          <p:nvPr/>
        </p:nvPicPr>
        <p:blipFill>
          <a:blip r:embed="rId2"/>
          <a:stretch/>
        </p:blipFill>
        <p:spPr>
          <a:xfrm>
            <a:off x="5148360" y="1341360"/>
            <a:ext cx="34700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Архитек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от греч.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architekthon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строитель),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скусство проектировать и строить здания и др. сооружения , создающие среду, необходимую людям для их жизни и деятельности, в соответствии с назначением общества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Выразительные средства архитектуры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— композиция, тектоника, масштаб, пропорции, ритм, пластика объемов, фактура и цвет материалов.  В архитектуре взаимосвязаны функциональные, технические, эстетические начала (польза, прочность, красота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Храм Василия Блаженного в Москв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5003640" y="4365720"/>
            <a:ext cx="41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Портик Нов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Эрмитажа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кт–Петербург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12" descr="1"/>
          <p:cNvPicPr/>
          <p:nvPr/>
        </p:nvPicPr>
        <p:blipFill>
          <a:blip r:embed="rId1"/>
          <a:stretch/>
        </p:blipFill>
        <p:spPr>
          <a:xfrm>
            <a:off x="395280" y="1916280"/>
            <a:ext cx="4027320" cy="4484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1"/>
          <p:cNvPicPr/>
          <p:nvPr/>
        </p:nvPicPr>
        <p:blipFill>
          <a:blip r:embed="rId2"/>
          <a:srcRect l="0" t="0" r="0" b="-265"/>
          <a:stretch/>
        </p:blipFill>
        <p:spPr>
          <a:xfrm>
            <a:off x="5003640" y="549360"/>
            <a:ext cx="383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40360" y="3212640"/>
            <a:ext cx="374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геев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тьян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кола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40360" y="4508280"/>
            <a:ext cx="4751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подаваемый предмет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бразительное искусство (ИЗО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ж работы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5 л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лечения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шивание, вязан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ет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258920" y="333360"/>
            <a:ext cx="7885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oblcit"/>
          <p:cNvPicPr/>
          <p:nvPr/>
        </p:nvPicPr>
        <p:blipFill>
          <a:blip r:embed="rId1"/>
          <a:stretch/>
        </p:blipFill>
        <p:spPr>
          <a:xfrm>
            <a:off x="250920" y="333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8163720" y="64911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SP_A0083"/>
          <p:cNvPicPr/>
          <p:nvPr/>
        </p:nvPicPr>
        <p:blipFill>
          <a:blip r:embed="rId2"/>
          <a:stretch/>
        </p:blipFill>
        <p:spPr>
          <a:xfrm>
            <a:off x="395280" y="2997360"/>
            <a:ext cx="3598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cc"/>
                </a:solidFill>
                <a:latin typeface="Monotype Corsiva"/>
              </a:rPr>
              <a:t> 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График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6612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т (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graph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пишу), вид изобразительного искусства, включающий рисунок и печатные художественные изображения (гравюра, литография и др.), основанные на искусстве рисунка и выполненные карандашом, пером или угл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628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Monotype Corsiva"/>
              </a:rPr>
              <a:t>Выразительные средства графики</a:t>
            </a:r>
            <a:r>
              <a:rPr b="0" lang="ru-RU" sz="36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— контурная линия, штрих, пятно (иногда цветовое), фон листа, с которым изображение образует контрастное или нюансное  соотношение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Гравюра                                   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324000" y="595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Литограф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12" descr="1"/>
          <p:cNvPicPr/>
          <p:nvPr/>
        </p:nvPicPr>
        <p:blipFill>
          <a:blip r:embed="rId1"/>
          <a:stretch/>
        </p:blipFill>
        <p:spPr>
          <a:xfrm>
            <a:off x="324000" y="260280"/>
            <a:ext cx="3976560" cy="5764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" descr="1"/>
          <p:cNvPicPr/>
          <p:nvPr/>
        </p:nvPicPr>
        <p:blipFill>
          <a:blip r:embed="rId2"/>
          <a:stretch/>
        </p:blipFill>
        <p:spPr>
          <a:xfrm>
            <a:off x="4788000" y="692280"/>
            <a:ext cx="3976560" cy="57909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5"/>
          <p:cNvSpPr/>
          <p:nvPr/>
        </p:nvSpPr>
        <p:spPr>
          <a:xfrm>
            <a:off x="7827840" y="649116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3240" y="230040"/>
            <a:ext cx="7556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Тест по изобразительному искусству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ahoma"/>
              </a:rPr>
              <a:t>Соотнесите  представителей искусства и эпох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а. Средние века         а. Э. Неизвес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. Новое время          б. Леонардо да  Винч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.Современность       в. Сальвадор Дали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3456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 Портр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. Натюрмо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Пейз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Соотнесите  жанр искусства и репродукцию.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5919840" y="1556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63880" y="4161600"/>
            <a:ext cx="4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6432480" y="31932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3830400" y="41662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3773880" y="24915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6433200" y="5012280"/>
            <a:ext cx="7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14" descr="1"/>
          <p:cNvPicPr/>
          <p:nvPr/>
        </p:nvPicPr>
        <p:blipFill>
          <a:blip r:embed="rId1"/>
          <a:stretch/>
        </p:blipFill>
        <p:spPr>
          <a:xfrm>
            <a:off x="7164360" y="1413000"/>
            <a:ext cx="1432080" cy="1474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5" descr="Рисунок1"/>
          <p:cNvPicPr/>
          <p:nvPr/>
        </p:nvPicPr>
        <p:blipFill>
          <a:blip r:embed="rId2"/>
          <a:stretch/>
        </p:blipFill>
        <p:spPr>
          <a:xfrm>
            <a:off x="7093080" y="3141720"/>
            <a:ext cx="1492200" cy="1485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6" descr="1"/>
          <p:cNvPicPr/>
          <p:nvPr/>
        </p:nvPicPr>
        <p:blipFill>
          <a:blip r:embed="rId3"/>
          <a:stretch/>
        </p:blipFill>
        <p:spPr>
          <a:xfrm>
            <a:off x="7093080" y="4941720"/>
            <a:ext cx="1604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Укажите название репродукции и соотнесите с автором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2651400" y="39945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 flipH="1">
            <a:off x="468360" y="342828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2651400" y="39423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1800" y="4941000"/>
            <a:ext cx="6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2619360" y="4025880"/>
            <a:ext cx="39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5929920" y="198828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4000320" y="25660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3998520" y="398520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5940360" y="342900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6212520" y="594900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в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1"/>
          <p:cNvSpPr/>
          <p:nvPr/>
        </p:nvSpPr>
        <p:spPr>
          <a:xfrm>
            <a:off x="3939480" y="40129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2"/>
          <p:cNvSpPr/>
          <p:nvPr/>
        </p:nvSpPr>
        <p:spPr>
          <a:xfrm>
            <a:off x="4430880" y="622944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23" descr="1"/>
          <p:cNvPicPr/>
          <p:nvPr/>
        </p:nvPicPr>
        <p:blipFill>
          <a:blip r:embed="rId1"/>
          <a:stretch/>
        </p:blipFill>
        <p:spPr>
          <a:xfrm>
            <a:off x="1403280" y="1557360"/>
            <a:ext cx="1527120" cy="1452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4" descr="1"/>
          <p:cNvPicPr/>
          <p:nvPr/>
        </p:nvPicPr>
        <p:blipFill>
          <a:blip r:embed="rId2"/>
          <a:stretch/>
        </p:blipFill>
        <p:spPr>
          <a:xfrm>
            <a:off x="1403280" y="3213000"/>
            <a:ext cx="1441440" cy="1444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5" descr="1"/>
          <p:cNvPicPr/>
          <p:nvPr/>
        </p:nvPicPr>
        <p:blipFill>
          <a:blip r:embed="rId3"/>
          <a:stretch/>
        </p:blipFill>
        <p:spPr>
          <a:xfrm>
            <a:off x="1332000" y="4797360"/>
            <a:ext cx="1660320" cy="1590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6" descr="1"/>
          <p:cNvPicPr/>
          <p:nvPr/>
        </p:nvPicPr>
        <p:blipFill>
          <a:blip r:embed="rId4"/>
          <a:stretch/>
        </p:blipFill>
        <p:spPr>
          <a:xfrm>
            <a:off x="6877080" y="1341360"/>
            <a:ext cx="1809720" cy="1801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7" descr="1"/>
          <p:cNvPicPr/>
          <p:nvPr/>
        </p:nvPicPr>
        <p:blipFill>
          <a:blip r:embed="rId5"/>
          <a:srcRect l="0" t="0" r="0" b="-195"/>
          <a:stretch/>
        </p:blipFill>
        <p:spPr>
          <a:xfrm>
            <a:off x="6804000" y="3284640"/>
            <a:ext cx="1944720" cy="13935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8" descr="1"/>
          <p:cNvPicPr/>
          <p:nvPr/>
        </p:nvPicPr>
        <p:blipFill>
          <a:blip r:embed="rId6"/>
          <a:stretch/>
        </p:blipFill>
        <p:spPr>
          <a:xfrm>
            <a:off x="6877080" y="4941720"/>
            <a:ext cx="1881000" cy="17431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29"/>
          <p:cNvSpPr/>
          <p:nvPr/>
        </p:nvSpPr>
        <p:spPr>
          <a:xfrm>
            <a:off x="5940360" y="508464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720" y="290160"/>
            <a:ext cx="8136000" cy="865080"/>
          </a:xfrm>
          <a:prstGeom prst="rect">
            <a:avLst/>
          </a:prstGeom>
          <a:solidFill>
            <a:srgbClr val="3366ff">
              <a:alpha val="1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Monotype Corsiva"/>
              </a:rPr>
              <a:t>Список используемой литератур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91280" cy="4397400"/>
          </a:xfrm>
          <a:prstGeom prst="rect">
            <a:avLst/>
          </a:prstGeom>
          <a:solidFill>
            <a:srgbClr val="0033cc">
              <a:alpha val="37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Н. Ростовцев, «Методика преподавания изобразительного искусства в школе»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Н.М. Сокольникова, « Основы рисунка», 1996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В.С. Кузин, «Изобразительное искусство в школе», 1995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М.Г. Дрезнина, «Каждый ребенок – художник», 200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Т.Н. Вышинская, «Уроки рисования», 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megabook.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bat"/>
              </a:rPr>
              <a:t>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Искусство –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посредн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того, чего нельз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</a:t>
            </a: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высказать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                 </a:t>
            </a:r>
            <a:r>
              <a:rPr b="0" i="1" lang="ru-RU" sz="4400" spc="-1" strike="noStrike">
                <a:solidFill>
                  <a:srgbClr val="ffffff"/>
                </a:solidFill>
                <a:latin typeface="Arbat"/>
              </a:rPr>
              <a:t>Ге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Содержание уро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63272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иды изобразительного  искус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Живоп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пись и ее жан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кульп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Архитек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Граф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bat"/>
              </a:rPr>
              <a:t>   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Виды изобразительного искусства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18320" cy="5029200"/>
          </a:xfrm>
          <a:prstGeom prst="rect">
            <a:avLst/>
          </a:prstGeom>
          <a:solidFill>
            <a:srgbClr val="0000ff">
              <a:alpha val="1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ам,  конечно, доводилось видеть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рисун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карандашом или углем на бумаг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картины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написанные красками на холст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памятни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– гранитные и мраморные, расписные глиняные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игруш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здания храмов и музеев – старинные и построенные давно.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4869000"/>
            <a:ext cx="8208720" cy="1503360"/>
          </a:xfrm>
          <a:prstGeom prst="rect">
            <a:avLst/>
          </a:prstGeom>
          <a:solidFill>
            <a:srgbClr val="3366ff">
              <a:alpha val="3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е это – произведения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скусства различных его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ffff"/>
                </a:solidFill>
                <a:latin typeface="Arbat"/>
              </a:rPr>
              <a:t>видов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Object 48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305160" cy="1054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5" descr="1"/>
          <p:cNvPicPr/>
          <p:nvPr/>
        </p:nvPicPr>
        <p:blipFill>
          <a:blip r:embed="rId2"/>
          <a:stretch/>
        </p:blipFill>
        <p:spPr>
          <a:xfrm>
            <a:off x="900000" y="189000"/>
            <a:ext cx="3543480" cy="4422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7" descr="2"/>
          <p:cNvPicPr/>
          <p:nvPr/>
        </p:nvPicPr>
        <p:blipFill>
          <a:blip r:embed="rId3"/>
          <a:stretch/>
        </p:blipFill>
        <p:spPr>
          <a:xfrm>
            <a:off x="4859280" y="189000"/>
            <a:ext cx="3402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Живопис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ид изобразительного искусства, произведения которого создаются с помощью красок, наносимых на какую-либо поверхность.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Живопись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— важное средство художественного отражения и истолкования действительности, воздействия на мысли и чувства зр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Основные технические разновидности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масляная живопись, живопись водяными красками по штукатурке — сыр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фреска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сух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а секко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,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емпера, клеевая живопись, восковая живопись, эмаль, живопись керамическая, силикатными, синтетическими красками, мозаика, витраж; акварель, гуашь, пасте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итраж собора в Шартр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5148360" y="5300640"/>
            <a:ext cx="366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Фрес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монастыр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 – Мар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2" descr="3"/>
          <p:cNvPicPr/>
          <p:nvPr/>
        </p:nvPicPr>
        <p:blipFill>
          <a:blip r:embed="rId1"/>
          <a:stretch/>
        </p:blipFill>
        <p:spPr>
          <a:xfrm>
            <a:off x="468360" y="1557360"/>
            <a:ext cx="3819600" cy="4876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1"/>
          <p:cNvPicPr/>
          <p:nvPr/>
        </p:nvPicPr>
        <p:blipFill>
          <a:blip r:embed="rId2"/>
          <a:stretch/>
        </p:blipFill>
        <p:spPr>
          <a:xfrm>
            <a:off x="5076720" y="333360"/>
            <a:ext cx="34704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1:14:00Z</dcterms:created>
  <dc:creator>Наташа</dc:creator>
  <dc:description/>
  <dc:language>en-US</dc:language>
  <cp:lastModifiedBy>Name</cp:lastModifiedBy>
  <dcterms:modified xsi:type="dcterms:W3CDTF">2011-02-03T12:41:54Z</dcterms:modified>
  <cp:revision>26</cp:revision>
  <dc:subject/>
  <dc:title>Виды изобразительного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d0000000000010243000207f6000400038000</vt:lpwstr>
  </property>
</Properties>
</file>